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82932"/>
        <c:axId val="18960534"/>
      </c:barChart>
      <c:catAx>
        <c:axId val="30682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60534"/>
        <c:crosses val="autoZero"/>
        <c:auto val="1"/>
        <c:lblAlgn val="ctr"/>
        <c:lblOffset val="100"/>
        <c:noMultiLvlLbl val="0"/>
      </c:catAx>
      <c:valAx>
        <c:axId val="189605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82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E39-F345-4514-80A2-0CA5A8E5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C19D-4492-41DC-B949-63F2E304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D5C-2799-4923-BD11-5BD58271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A96-83DC-4B8F-A211-51469311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A131-8B8F-4438-8B5C-ED08B64A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295C-B449-4984-8060-B8E3A4F2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8A9-9E26-49A9-B400-21EC734D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B13-29FC-47DD-AACB-16D2FE5F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E5E4-A3AE-42F6-AD9C-D0DB981D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4C6E-A006-4CA1-8FAD-1FA05E25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BFE9-4600-4FB0-8F32-D45CA5FE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292-1519-43D3-899A-592C3F2D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84803-A1BF-400E-AD7C-6CAFBEE39E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