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28963"/>
        <c:axId val="22707536"/>
      </c:barChart>
      <c:catAx>
        <c:axId val="11028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7536"/>
        <c:crosses val="autoZero"/>
        <c:auto val="1"/>
        <c:lblAlgn val="ctr"/>
        <c:lblOffset val="100"/>
        <c:noMultiLvlLbl val="0"/>
      </c:catAx>
      <c:valAx>
        <c:axId val="22707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28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BCD-86E9-498E-851C-FC13AA75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087-7DDA-4FC7-8ECC-786FC7C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6B6-028C-4A91-B8AC-629C45D7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AE1-8DB1-43CD-BCDD-6855C1B7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AFD-103E-4F41-8959-58E506D0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0A7-B89B-4D5D-81FB-12B0B5B1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188-7F00-4FB8-ACDF-FDAC6759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236-8753-4320-AACA-2FBD99A6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B37-86F0-4C9D-B93F-A52FF21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F19-5454-4DD1-96F1-20E5F80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563-DD5B-43DC-9ED6-1406AB8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869-C9D2-4849-A2FF-E1CF8DE0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2A15D-6363-4878-B942-9AFD565165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