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44477"/>
        <c:axId val="12206641"/>
      </c:barChart>
      <c:catAx>
        <c:axId val="400444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06641"/>
        <c:crosses val="autoZero"/>
        <c:auto val="1"/>
        <c:lblAlgn val="ctr"/>
        <c:lblOffset val="100"/>
        <c:noMultiLvlLbl val="0"/>
      </c:catAx>
      <c:valAx>
        <c:axId val="12206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444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3C82-BAFC-49DC-8421-F4F5AE5A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ECDC-E0DA-40AD-93BF-5623A291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F2B-1DBB-44E9-A66C-BBA12C9F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4635-5A22-4D3C-A3FD-E833DBA2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6C24-5F97-48D7-879E-B1C8F281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3AF-3DF0-4928-91D4-C305CCA4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701E-225D-4BF6-A2E9-188D87DE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946-31BB-47AC-B73A-03730381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840-E2EE-4C12-8CEF-5072C3BA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4124-C544-41C8-87B7-6D3F162C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DAA9-1B44-42B2-A478-DDF67C15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0DB-4917-41F3-A759-23728B9F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4E2CA-7B02-48DE-BCCA-07F763F3B2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