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19603"/>
        <c:axId val="35780078"/>
      </c:barChart>
      <c:catAx>
        <c:axId val="60419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80078"/>
        <c:crosses val="autoZero"/>
        <c:auto val="1"/>
        <c:lblAlgn val="ctr"/>
        <c:lblOffset val="100"/>
        <c:noMultiLvlLbl val="0"/>
      </c:catAx>
      <c:valAx>
        <c:axId val="35780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19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BA8-F4B4-49FE-B774-D54EE765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55F-E14F-4E1B-8A11-76014001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001-CF1F-479E-9E43-3CF95E34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2D6-2D27-493C-A23F-4622D481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A3B-5476-4B0F-BBA6-1A5EDCB9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AD3-4C80-4AC6-885A-2DF8BA4D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ACE-C235-416D-AEE3-CBBBAF2F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C1A-10E1-491A-BF05-33BB005C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7A5-CE65-40B2-AE79-9A81B09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7D8-3B66-461D-85E7-32E5C47A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AC0-9387-47F6-A6B4-9502AA5B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23F-1FC3-4FB4-AD2A-A30067F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7D776-D6A5-4208-AB05-864ED1FC3D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