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566747"/>
        <c:axId val="23452970"/>
      </c:barChart>
      <c:catAx>
        <c:axId val="535667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52970"/>
        <c:crosses val="autoZero"/>
        <c:auto val="1"/>
        <c:lblAlgn val="ctr"/>
        <c:lblOffset val="100"/>
        <c:noMultiLvlLbl val="0"/>
      </c:catAx>
      <c:valAx>
        <c:axId val="234529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667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44C-F935-42E6-8D5B-654CBA16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7D49-A57E-42FD-8DC5-CB2F0790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E0D-07DD-4C95-8799-BDA3BEFF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A3FF-AEBE-4125-88E7-DEED43F0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2A32-FF7E-4CE0-B58A-3EA25501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5BD8-265A-412D-87FA-3F8E50BA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AED-C8EA-48B6-A88C-7A6A1A34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98EF-C691-4E4D-8D41-2133432A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58E-EB30-405E-B76E-31905788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91F-5037-4075-975E-54FAAAAB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2CAA-4E5A-4ECE-B95E-9546755C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6A9-EEB7-4DC9-A03D-D6EA9519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EBD2A-FFFA-4EEA-8E38-3E41355209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