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0164"/>
        <c:axId val="97067286"/>
      </c:barChart>
      <c:catAx>
        <c:axId val="7630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67286"/>
        <c:crosses val="autoZero"/>
        <c:auto val="1"/>
        <c:lblAlgn val="ctr"/>
        <c:lblOffset val="100"/>
        <c:noMultiLvlLbl val="0"/>
      </c:catAx>
      <c:valAx>
        <c:axId val="97067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0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485-8337-480B-B688-0DED3076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9D0-4D82-4FA2-BD81-28B77813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E52-1423-4CAF-B5DD-93549136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EAC-170D-44BA-874D-1322DC0F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D18-60EA-4F92-8BCF-F0D2357B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F23-99A5-45B2-8721-469A5D01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131-EC93-4761-9C9E-F10426E6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227-C52E-49CF-91A1-A8FD4F9F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141-5EEA-48EE-B27A-360AE213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01E-787A-4647-9D37-8B8D3813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5DF-8F02-4706-8053-D162423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359-05F8-42C7-91BA-C4CDF2A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67803-B7F8-4EF5-A9AC-6BB03E9006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