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23638"/>
        <c:axId val="66988854"/>
      </c:barChart>
      <c:catAx>
        <c:axId val="925236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88854"/>
        <c:crosses val="autoZero"/>
        <c:auto val="1"/>
        <c:lblAlgn val="ctr"/>
        <c:lblOffset val="100"/>
        <c:noMultiLvlLbl val="0"/>
      </c:catAx>
      <c:valAx>
        <c:axId val="669888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236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61A-7028-4981-8B6C-7D977E2A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D772-720B-42BF-8A03-7BE8764E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76EE-4B87-4463-9CD6-CDFDF60B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F9F4-994E-40B8-9842-DD377415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18FD-90C9-401F-A69C-6F222BD0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3B9-994A-4380-81CD-771EFF0C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FAAA-4CA8-4B5C-91AF-F67C7E69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AD2A-1D35-4CF5-B031-FA04ACE0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188-58C1-4AB0-9769-2DA8A0E1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1C64-8AA8-4C81-94BF-6D81E9FD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9FF3-5743-419F-9DB1-F3D4E4F9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1E17-3645-4FC9-8A8D-2D65246C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0736F-6121-4D5B-B15F-B5C30A2102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