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081136"/>
        <c:axId val="90199546"/>
      </c:barChart>
      <c:catAx>
        <c:axId val="630811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199546"/>
        <c:crosses val="autoZero"/>
        <c:auto val="1"/>
        <c:lblAlgn val="ctr"/>
        <c:lblOffset val="100"/>
        <c:noMultiLvlLbl val="0"/>
      </c:catAx>
      <c:valAx>
        <c:axId val="901995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0811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84E2-C6D3-4D9E-AA1C-D74A97826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0ABB-8151-47A0-B037-6EC70AE04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F053-78D4-4DCC-B1A0-E948027D9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8E17-D8DB-441E-8EBA-ABA9EE9F0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5B86-0095-4D38-A811-49ADE29DB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2AE7-0335-4E05-AC15-F469F292E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4744-3065-4263-B0A6-58BCA8D5A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84FE-CBAF-4561-8251-9B0C0A885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210E-58F0-46DB-B99E-D1EC139FD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451F-0A93-44C5-AE38-FCE2DEF9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3B53-87EC-4DE8-9E68-8A5C6899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ABE4-52FC-4957-9B77-94B6F765C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197AD9-24E8-4BC8-8D2F-B7C9587E551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