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03134"/>
        <c:axId val="16179700"/>
      </c:barChart>
      <c:catAx>
        <c:axId val="11703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79700"/>
        <c:crosses val="autoZero"/>
        <c:auto val="1"/>
        <c:lblAlgn val="ctr"/>
        <c:lblOffset val="100"/>
        <c:noMultiLvlLbl val="0"/>
      </c:catAx>
      <c:valAx>
        <c:axId val="16179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03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369-272D-4D98-8D52-10AECC76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D5E-38AB-450A-AD04-697A08CC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692-9A4F-449D-9A8A-3494B56B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F5B-741F-477D-8E8C-7DC2814F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467-AFD4-4C5E-BE84-FB42D21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039-762F-4AE6-8E0B-B84B09AF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D0A-00BF-4F04-B6F8-A1030999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45C-24C6-42D2-AB94-572C4BE6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7F5-E956-4C39-B6A1-CF85057A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1B9-7E5D-45A4-AEB4-D5DF2DD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A0C-AE8D-4C3F-85E7-F67AB20B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ED1-F3AE-4F5A-B3B6-BF7B1786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DAEDC-C6B6-4758-A2EA-02E439D392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