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57182"/>
        <c:axId val="53389940"/>
      </c:barChart>
      <c:catAx>
        <c:axId val="23257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89940"/>
        <c:crosses val="autoZero"/>
        <c:auto val="1"/>
        <c:lblAlgn val="ctr"/>
        <c:lblOffset val="100"/>
        <c:noMultiLvlLbl val="0"/>
      </c:catAx>
      <c:valAx>
        <c:axId val="53389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7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769-922B-4B12-BBF0-6FAF8392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AEF-8E4A-4828-AF09-1D24BC8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559-274D-4598-B512-082E00C1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763-74AD-4130-8CCB-123EDB50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CF8-0761-4DD7-BBA3-D20F6508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5D8-AF35-4A47-8D21-0A3AF74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588-993C-4B0A-817F-0458B217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D25-422A-446A-8E03-C4A899F6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D60-9611-4345-BCE2-C4F81106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9E0-EAD4-43B6-B8F4-1DC4CCA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33A-6267-487E-A488-B858B29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9BC-9DC8-485A-BEF1-72DD6CCD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3F42E-3F5B-4ED8-94BE-BCDE5E8586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