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59166"/>
        <c:axId val="41587543"/>
      </c:barChart>
      <c:catAx>
        <c:axId val="96459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87543"/>
        <c:crosses val="autoZero"/>
        <c:auto val="1"/>
        <c:lblAlgn val="ctr"/>
        <c:lblOffset val="100"/>
        <c:noMultiLvlLbl val="0"/>
      </c:catAx>
      <c:valAx>
        <c:axId val="41587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59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784-B506-448E-B38D-5A5877FC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32B-ABF0-4C71-B3AE-B28800FA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A7D-FADA-483A-9141-F406FB75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DD1-973E-4FBE-A2E9-BBD2C461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8C7C-536A-4C45-B1D9-B52A118B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8E8-4985-423E-AD74-90088545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759-9F7B-4229-BD2A-BF28C819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ED3-19AA-4967-A6E6-6DCF4806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97C-3FD5-4D28-82BB-91837DD2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9AA-5FDD-4DF9-B879-22CA73B6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6F6-421D-4EEC-953E-798860D9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5F7-3BD5-4E3F-97A2-5D4FA892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A2990-4E4A-4207-87E2-3D02505253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