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7368976"/>
        <c:axId val="62518472"/>
      </c:barChart>
      <c:catAx>
        <c:axId val="9736897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2518472"/>
        <c:crosses val="autoZero"/>
        <c:auto val="1"/>
        <c:lblAlgn val="ctr"/>
        <c:lblOffset val="100"/>
        <c:noMultiLvlLbl val="0"/>
      </c:catAx>
      <c:valAx>
        <c:axId val="6251847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736897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CAABB-32BF-4A7B-80A2-DFD574636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1690F-A43C-4F14-88FA-ED29EEFA3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7D849-ADFB-4DC5-93CC-87EE739D9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82388-A9FB-4849-9FDE-6D8219CB4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70538-E5EC-4D07-A2E5-245430BB1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EF842-BFA3-40FE-9FA7-1E5B5950A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E4D7E-1819-4B21-A37A-692E229D2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7539C-65A5-4C5C-A584-AE9CB4FBA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83870-FC24-40AF-85F5-8209FF016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1BC9D-CDBB-4756-BF84-FF17D0DAE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47290-1051-4AF2-B36A-EF1F3AFAC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33BFE-B635-4351-8564-576DA49AA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DCD905-5251-48A5-9915-F30297BE698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