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61909"/>
        <c:axId val="90085520"/>
      </c:barChart>
      <c:catAx>
        <c:axId val="72961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85520"/>
        <c:crosses val="autoZero"/>
        <c:auto val="1"/>
        <c:lblAlgn val="ctr"/>
        <c:lblOffset val="100"/>
        <c:noMultiLvlLbl val="0"/>
      </c:catAx>
      <c:valAx>
        <c:axId val="90085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61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927-F180-4220-BD7C-1854B974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02F-1F91-4434-A2AA-841F61D9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88E-BCB6-4AD0-8D8C-67E5905B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945-655B-42E8-9B1B-61CDAD10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072-DD8C-4AC6-981E-F2B76AF5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FAC-9E58-4AEC-A7A7-1C02AA2D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28F-CEF4-42D5-8020-E824A4E0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A23-35C9-44D6-8729-9BD22D1F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255-EA1B-42FF-9158-AFB65853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4AC-33C9-46BC-8277-15A4B99B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D2E-D4AF-4CCC-A1DD-65F5A77A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923-B595-48A5-A312-5AAAD496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96BD8-808F-44B0-B6F3-22C93E58DC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