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74807"/>
        <c:axId val="67248359"/>
      </c:barChart>
      <c:catAx>
        <c:axId val="58474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48359"/>
        <c:crosses val="autoZero"/>
        <c:auto val="1"/>
        <c:lblAlgn val="ctr"/>
        <c:lblOffset val="100"/>
        <c:noMultiLvlLbl val="0"/>
      </c:catAx>
      <c:valAx>
        <c:axId val="67248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74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1EE-E4F5-4985-8AC4-29644A0F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6D9-CB63-46CC-8197-9B306410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A45-F039-4ED1-91B7-954DD40F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591-062E-402E-8FE0-D38F8044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E7A-9D40-4A0E-A30D-41FB4192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645-3A5D-4CD3-B962-1110D402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11CD-7F39-4775-8CFA-F571344F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8EC-37F8-4083-BE69-C3F17CE3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E01-4596-49C7-A977-583A11DD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E56-899F-4E30-B296-7B5C2BB6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5A7-9409-4DCE-A70E-E2DEC966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528-15BE-4299-A389-0EF0D3FF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D4651-0725-4D90-8957-E6B5167012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