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07675"/>
        <c:axId val="10516117"/>
      </c:barChart>
      <c:catAx>
        <c:axId val="65507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16117"/>
        <c:crosses val="autoZero"/>
        <c:auto val="1"/>
        <c:lblAlgn val="ctr"/>
        <c:lblOffset val="100"/>
        <c:noMultiLvlLbl val="0"/>
      </c:catAx>
      <c:valAx>
        <c:axId val="10516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07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F89-A3C6-46E6-B922-CEC298BB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EE0-27F1-42CA-9040-5D30B9FB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EB4-D826-45DA-B704-ADFDFD0E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939-2254-4C26-95E6-EDF7C016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7F5-B50B-4CEA-83F4-7D43EA9C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8EE-8650-4052-AD92-20A9ACD9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99C-C3EE-4625-A900-781AE922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AE7-EA18-4339-BBD1-0F4509AC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2E5-BB44-4E22-81EE-1F09C40E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544-859E-4C9E-B9FC-1E3A77A8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920-ABA7-45F7-A823-FE5606F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AD4-1990-47FC-94D3-D73C60D5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7AF5F-D4ED-4CF6-B9C3-803EF3C3C7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