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39835"/>
        <c:axId val="26394056"/>
      </c:barChart>
      <c:catAx>
        <c:axId val="54639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94056"/>
        <c:crosses val="autoZero"/>
        <c:auto val="1"/>
        <c:lblAlgn val="ctr"/>
        <c:lblOffset val="100"/>
        <c:noMultiLvlLbl val="0"/>
      </c:catAx>
      <c:valAx>
        <c:axId val="26394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39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D76-2178-4C70-A136-56D24FDE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7E2-27F9-465C-A272-3D5832D5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D33-AB53-4E5A-9C98-9A67221F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2E6-2356-4393-B3A6-6B493B60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1DE-77F7-477A-8E30-5D9C4574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5B1-4DE0-4400-84CF-95B3A7FF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C46-32BE-43B9-B6D4-9AA4BD0B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B7D-8D50-448D-B1D6-4F4C557C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04B-0F70-4FBC-BA98-DF03395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26B-A33A-452B-9DD2-F0958459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E34-1E8E-46D6-BDD7-4D19DF3C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378-2958-4F8C-96FE-0DBC000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8C9CB-380E-48FF-B170-98CDAB33F5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