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17100"/>
        <c:axId val="10400149"/>
      </c:barChart>
      <c:catAx>
        <c:axId val="80717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00149"/>
        <c:crosses val="autoZero"/>
        <c:auto val="1"/>
        <c:lblAlgn val="ctr"/>
        <c:lblOffset val="100"/>
        <c:noMultiLvlLbl val="0"/>
      </c:catAx>
      <c:valAx>
        <c:axId val="10400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17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228-EA22-4110-8FC9-24DDD1E8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A12-27C2-4F97-BD9E-F9D628D0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EAD-D7A1-4A5E-A4F7-B1CDC782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7A0-6849-4FA3-A944-FCA2D4A7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E82-4471-4669-8208-5CC90DC6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1DE-6684-4233-8BF3-441DB1BA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BB1-39DF-4C19-BE88-163F859E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5F4-3C62-49D1-8396-50E799E5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0C4-BFE1-4BFA-A43E-55E096FF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38C-EE1B-4E29-8161-003144E8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D19-4703-4C47-87D1-78CF001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7E8-D6FA-4BFD-A841-56E95F64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4D15B-2DC7-40B2-838D-38F53FCFD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