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74812"/>
        <c:axId val="42650288"/>
      </c:barChart>
      <c:catAx>
        <c:axId val="74474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50288"/>
        <c:crosses val="autoZero"/>
        <c:auto val="1"/>
        <c:lblAlgn val="ctr"/>
        <c:lblOffset val="100"/>
        <c:noMultiLvlLbl val="0"/>
      </c:catAx>
      <c:valAx>
        <c:axId val="42650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74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181-1DE5-41FB-AC7B-46F8BE2B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0AD-863A-4997-88AC-440FA416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697-C79F-49EA-8A08-27804912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722-6279-4565-8299-0575962E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627-A7A5-459A-8C68-5B097C57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06F-D64E-4CFD-9D17-B6924303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9CC-0F13-4462-9ADA-4BAA2737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041-2BBE-4966-BEF8-B01C71E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A49-D16E-4DFF-9621-F0C5AB88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782-105A-437C-B8B6-9F656F55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EB5-48C4-4B76-9FF3-DA423CAC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173-DE91-40E6-8998-D43B57D7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E5D5E-1397-4052-B17A-B294F9FFA8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