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60784"/>
        <c:axId val="58167357"/>
      </c:barChart>
      <c:catAx>
        <c:axId val="432607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67357"/>
        <c:crosses val="autoZero"/>
        <c:auto val="1"/>
        <c:lblAlgn val="ctr"/>
        <c:lblOffset val="100"/>
        <c:noMultiLvlLbl val="0"/>
      </c:catAx>
      <c:valAx>
        <c:axId val="58167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607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1091-9264-4ECD-851F-A4D8DB7D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4670-77C9-4E9B-9450-F84670ED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5ACC-6B22-43AA-A0A2-EA99FE5D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FBA4-00B4-45E4-8EF0-916EEFDE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0B0-5A11-4EE8-8B60-2180A458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8AD-A670-4AC7-B880-FDC9F0AE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9670-9D4F-44C1-9A90-FE770DC6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29C6-D506-4F21-8D14-0FAA38AD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951-473B-4D7F-B043-36DE70CE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CF35-983C-4058-802C-CCAF7ECB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0E6-3964-4E20-9C21-E397ED60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69C1-8C16-48A0-952C-579A8B30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10357-5CDD-438A-80FE-36279FAC1F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