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50866"/>
        <c:axId val="66322778"/>
      </c:barChart>
      <c:catAx>
        <c:axId val="52550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22778"/>
        <c:crosses val="autoZero"/>
        <c:auto val="1"/>
        <c:lblAlgn val="ctr"/>
        <c:lblOffset val="100"/>
        <c:noMultiLvlLbl val="0"/>
      </c:catAx>
      <c:valAx>
        <c:axId val="66322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50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6F8-A92B-4D4A-B1AC-B4451337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19C-8B8A-40F9-9784-7F72F34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760-C203-44D6-8CAF-2A0B37DA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4F7-3B96-45F2-A5FA-3248D076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069-6E30-41EE-924A-5EE73190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674-04F6-4A16-8D23-D88148E3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673-8FA2-4ED6-9AC7-CD8621C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02A-B04F-4FCC-A6FC-1D46FCA3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B38-BACE-473D-9B43-3EAC077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2E7-19B3-44B2-B703-8C0B016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0AB-7156-4541-B2CF-DC3E8C6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B56-FAF0-4346-8B84-8C8F6A4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3861E-5472-4B25-AD28-3D344FC1B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