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44001"/>
        <c:axId val="70037624"/>
      </c:barChart>
      <c:catAx>
        <c:axId val="96244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37624"/>
        <c:crosses val="autoZero"/>
        <c:auto val="1"/>
        <c:lblAlgn val="ctr"/>
        <c:lblOffset val="100"/>
        <c:noMultiLvlLbl val="0"/>
      </c:catAx>
      <c:valAx>
        <c:axId val="70037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44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EC7-0734-4435-8964-12FB8DBE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1CC-1FC4-4359-A675-8A31974D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46A-E296-42AD-92D3-29214794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EF2-43F0-4AEE-905D-8B2379FB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959-3996-46F1-86FB-217DA73F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A2F-9EC6-4596-B2A9-76B736CD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726-4701-4362-827F-DAF8562B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71F-BEE8-43A6-9A6B-14D88398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562-A405-44BD-98DE-19D0EAB9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23D-A582-48A6-A3DB-5823B05B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847-D395-408A-A448-46B6E4E1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541-C91B-4DBD-A63D-3F4F0079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952E0-7A75-4A8B-AC9C-6586B51680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