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99088"/>
        <c:axId val="30022183"/>
      </c:barChart>
      <c:catAx>
        <c:axId val="56199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22183"/>
        <c:crosses val="autoZero"/>
        <c:auto val="1"/>
        <c:lblAlgn val="ctr"/>
        <c:lblOffset val="100"/>
        <c:noMultiLvlLbl val="0"/>
      </c:catAx>
      <c:valAx>
        <c:axId val="30022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99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711-F747-4700-8A63-F2EF2F08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26E-A2DB-43C9-B418-91C2A9EA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364-2CBF-49D9-9BE5-DC23340F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7ED-1263-46A3-AC18-B815DA2D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282-F075-43E1-8176-2FE600DE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2C1-EC56-4C9F-AC04-39959DFE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B16-4922-412F-8AA5-ED398E36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FC5-887B-4980-8BF1-C5A24BE8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953-BDE8-4BA0-8774-905B0227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8CA-75B1-4717-8AA4-0084949F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C7E-A941-4BAD-9DA2-115EB507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EF0-A753-459C-9B7D-DA23B0B3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D718A-A4F4-4FA4-AC71-9AF9E389CC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