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93265"/>
        <c:axId val="9890144"/>
      </c:barChart>
      <c:catAx>
        <c:axId val="47193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0144"/>
        <c:crosses val="autoZero"/>
        <c:auto val="1"/>
        <c:lblAlgn val="ctr"/>
        <c:lblOffset val="100"/>
        <c:noMultiLvlLbl val="0"/>
      </c:catAx>
      <c:valAx>
        <c:axId val="9890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3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84F-62F9-44A0-A243-0065D1D8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F4B-3116-40E5-950A-6D6249C7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E4B-CAB4-49A1-A08A-8C39006C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EFF-1715-43C9-BE10-6AD16F52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053-CA6A-4C8E-9879-8F58A24C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D5E-A1E5-4509-B387-18DBB80D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3A6-772B-42E4-97F5-D1E2299A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FE8-7441-439D-93E1-2F0FD0D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57D-1B30-479B-8E6A-1355B30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E64-6A8A-4325-AC55-45B95520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2FF-0093-4B4B-B216-C199048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695-6A89-4057-AAEF-6880C39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BA475-CD0E-4118-BC0E-C3EAED228A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