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33986"/>
        <c:axId val="17117473"/>
      </c:barChart>
      <c:catAx>
        <c:axId val="37833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7473"/>
        <c:crosses val="autoZero"/>
        <c:auto val="1"/>
        <c:lblAlgn val="ctr"/>
        <c:lblOffset val="100"/>
        <c:noMultiLvlLbl val="0"/>
      </c:catAx>
      <c:valAx>
        <c:axId val="17117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3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B48-C40B-4FD1-8303-98104EE5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215-BD11-47BD-B9BA-386ED4B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956-5F94-43B0-8875-8F0738DF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645-4E91-4E9F-BCA5-09A4CE4D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743-5644-4E7D-86C9-78E7061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F7C-5076-426D-B8B5-8D5D5D1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EFA-0C0A-4B2C-8A17-3920B8E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062-9FD0-4B74-966D-9E4201B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F70-B90C-4C80-B256-83402993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8BD-2D5E-4707-990D-D13E8F4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8BE-EF91-42D9-8019-C1BA41A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D01-8396-4946-9711-42C3371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AB99-E9F0-4933-9EBC-50C63BBFFD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