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193700"/>
        <c:axId val="10958504"/>
      </c:barChart>
      <c:catAx>
        <c:axId val="419370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958504"/>
        <c:crosses val="autoZero"/>
        <c:auto val="1"/>
        <c:lblAlgn val="ctr"/>
        <c:lblOffset val="100"/>
        <c:noMultiLvlLbl val="0"/>
      </c:catAx>
      <c:valAx>
        <c:axId val="1095850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9370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53A8-1FD4-4C02-9507-95ED480C1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4FFB-55B8-4434-97A4-84F3B7161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38EC-0A94-47F6-91CA-4B6DEC23D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3438-9C1C-4EC1-9A86-981388EC4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DBA0-02FC-4E53-8992-B0499FBBD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5A66-B9D8-4B33-BAEC-079CD90FE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213D-D39B-4FEA-991F-440AE099E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2540-D406-4DCF-9B6F-58386DC38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90F5-9851-413B-8E8B-AE4824270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1F70-AE79-41E5-97F5-6AF80C0B7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54D1-A8CB-489F-807D-49BCAB9F9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C632-4808-4CF1-9831-74CACF5B9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6075E1-223F-4915-8099-1A61684B221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