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28399"/>
        <c:axId val="36001351"/>
      </c:barChart>
      <c:catAx>
        <c:axId val="34828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1351"/>
        <c:crosses val="autoZero"/>
        <c:auto val="1"/>
        <c:lblAlgn val="ctr"/>
        <c:lblOffset val="100"/>
        <c:noMultiLvlLbl val="0"/>
      </c:catAx>
      <c:valAx>
        <c:axId val="36001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28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2D6-04D6-402A-BCA7-37AE8E5E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7F7-A4FC-4C73-8C2D-8E20CCBB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152-DD3A-4BEB-94D4-89EDE6E2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E51-16B1-49FD-BF73-D8CEA4AE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DEA-976C-4532-ACA6-619394EA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6BB-724F-48C9-867A-12953C3F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4F4-DD2F-4A64-BBBE-CE79AB5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DEC-62ED-4550-A166-DB12AC6F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1E2-9E45-4168-AE72-D34C5D2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071-29DA-4717-AE4B-C5B5A0D6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67E-70F6-47B3-9FDF-F8913D0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342-C134-47E8-A796-5EDF20C2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006F7-75F8-40DA-A8AA-A0028D36FE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