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16929"/>
        <c:axId val="42579141"/>
      </c:barChart>
      <c:catAx>
        <c:axId val="53416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79141"/>
        <c:crosses val="autoZero"/>
        <c:auto val="1"/>
        <c:lblAlgn val="ctr"/>
        <c:lblOffset val="100"/>
        <c:noMultiLvlLbl val="0"/>
      </c:catAx>
      <c:valAx>
        <c:axId val="42579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16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491-280F-4D44-9D69-39D851C6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858-FF20-41D6-A18E-EC90F141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035-EB29-40FF-84C7-C049F536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4EF-4AFD-4811-9234-6C9DB497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D5F-BDE9-4033-B04C-CDFA1F24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143-8048-40F5-94A6-C6631A6E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1F3-1A12-4986-BDA2-E461915F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85B-F196-48A1-B091-643AD921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D4E-1328-4E57-97F2-B9065FC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34C-F7F2-4B8A-B660-DD8B9A32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D94-8304-4DF4-80BB-EDBC60F5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801-3D6E-43EE-BF03-E97AD1BD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4B24D-F823-4D9D-B69D-3F925982F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