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08189"/>
        <c:axId val="97984081"/>
      </c:barChart>
      <c:catAx>
        <c:axId val="42008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84081"/>
        <c:crosses val="autoZero"/>
        <c:auto val="1"/>
        <c:lblAlgn val="ctr"/>
        <c:lblOffset val="100"/>
        <c:noMultiLvlLbl val="0"/>
      </c:catAx>
      <c:valAx>
        <c:axId val="97984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8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76F-8C74-4876-AEB0-6CB38D8D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8FD-266E-4414-A764-0144875E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A80-8ED1-4552-AD84-8BEC7E21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125-2845-4A21-88BA-D67C2AC4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FF3-0923-490C-AFBC-373DE194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D09-515A-4EA3-B555-0D0A2C16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C68-14B6-42DB-9620-63E5BE83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548-FF72-451F-88F1-471893A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779-C519-4FA0-B708-B79B48D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E50-7FF7-4A09-9CBE-6FD9ACC0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75C-600C-4C1A-BEBB-B5ED12A9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930-7C0B-4B9F-8298-2FAD0302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1903E-B918-49F5-A738-D2FE81B590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