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15483"/>
        <c:axId val="14184298"/>
      </c:barChart>
      <c:catAx>
        <c:axId val="58215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84298"/>
        <c:crosses val="autoZero"/>
        <c:auto val="1"/>
        <c:lblAlgn val="ctr"/>
        <c:lblOffset val="100"/>
        <c:noMultiLvlLbl val="0"/>
      </c:catAx>
      <c:valAx>
        <c:axId val="14184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15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821-ED99-4F23-97FE-BB2A89CA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B9AE-54CC-4837-8B09-322B0E92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7D0-51AD-4EFA-A6C9-FB04A431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84FE-842C-4917-A3EF-72E69346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E808-4473-4844-9473-BC348AEE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BDF-D30D-4129-8D81-04ED2618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FE3-1E00-4710-86F5-9DBEF76F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555-BC19-4B99-96FB-FDACFFFD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424-31F4-4802-8922-3BE54272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E332-38A8-49FC-A738-A77A7D20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5FE-F957-4B2C-AED0-AE3193F2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680-C1D7-41E9-8043-8C7F792E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80778-EC41-46D4-AA2B-4BD6DDC8CB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