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89159"/>
        <c:axId val="38801909"/>
      </c:barChart>
      <c:catAx>
        <c:axId val="78789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01909"/>
        <c:crosses val="autoZero"/>
        <c:auto val="1"/>
        <c:lblAlgn val="ctr"/>
        <c:lblOffset val="100"/>
        <c:noMultiLvlLbl val="0"/>
      </c:catAx>
      <c:valAx>
        <c:axId val="38801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89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BF5-9731-4E14-A655-EC675A0D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481-25D5-4DD9-9CBF-23177BB8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F6B-4B04-4843-BB2D-926B38B1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6B7-E236-4150-9C6F-130F546A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EB1-CF60-47F6-97A0-648A4CAA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714-00CA-4AB0-AF47-0B7DF2E2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DF2-2198-40DB-BBF4-8B0459B5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02A-E2EC-4279-AEFA-C9F58DEB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43F-3A56-4985-9644-FF4C8D41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54F-CA9E-4AEE-BD02-01C999B9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E69-E37F-4A4F-99AC-832F7935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E39-EB54-42DC-8978-9D9157BB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9975E-BFC1-4AC6-A776-BBE90CB160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