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1906"/>
        <c:axId val="51329955"/>
      </c:barChart>
      <c:catAx>
        <c:axId val="1441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29955"/>
        <c:crosses val="autoZero"/>
        <c:auto val="1"/>
        <c:lblAlgn val="ctr"/>
        <c:lblOffset val="100"/>
        <c:noMultiLvlLbl val="0"/>
      </c:catAx>
      <c:valAx>
        <c:axId val="51329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1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382-495C-41B0-8B64-F6F4E7CA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C44-4FE4-4581-B012-41E9C9D5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A63-4581-41EA-A835-271EA13C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6BE-534D-4931-855C-E9B37C21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E2A-0A40-4EF4-BA5D-CAA9AD66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E5C-8ED9-4D15-8700-61FDCD62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B97-E619-4865-8717-48F696B8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C9B1-857E-4558-A377-D0F43840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FDD-3234-4681-A63F-0C510A84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6AF-6B7E-4E11-BEC9-53863402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CF2-B266-47BE-A39E-F92044D3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B5D-DAE7-416C-8F25-89EEB337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9499D-2B74-4D81-B1DC-7746951395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