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27853"/>
        <c:axId val="8703148"/>
      </c:barChart>
      <c:catAx>
        <c:axId val="7602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03148"/>
        <c:crosses val="autoZero"/>
        <c:auto val="1"/>
        <c:lblAlgn val="ctr"/>
        <c:lblOffset val="100"/>
        <c:noMultiLvlLbl val="0"/>
      </c:catAx>
      <c:valAx>
        <c:axId val="8703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2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B973-3A69-46AB-B885-7BD90E4D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CD6-AD17-443B-AD66-4B54F21A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264-FCCD-4892-814C-069EF63E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7E6-8D6A-47BA-93D0-3FA5B7F0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E0A6-620A-43E1-8C66-ED4645F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13A-A78B-4F3A-B948-938D9F56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BEE-9D6F-4876-8EDD-C598DAC2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763-BE86-4B68-9388-4F650AFA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1FE2-92A0-49E7-98FE-257E8A87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7C02-A89C-4543-BBBB-8E143997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BAE-AA34-4863-B441-AF63BE01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63F1-3C0C-456B-AE28-987F23E5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E3B2D-0E91-4BEB-AC02-F0D5AF5BCC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