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792145"/>
        <c:axId val="42591080"/>
      </c:barChart>
      <c:catAx>
        <c:axId val="47792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1080"/>
        <c:crosses val="autoZero"/>
        <c:auto val="1"/>
        <c:lblAlgn val="ctr"/>
        <c:lblOffset val="100"/>
        <c:noMultiLvlLbl val="0"/>
      </c:catAx>
      <c:valAx>
        <c:axId val="42591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2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93A-748E-4266-BCB7-7E2F15D3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223-14ED-48B6-88FF-C33E9188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37B-0688-4503-9A84-470D75DF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3C8-393A-4CA1-A892-C609484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F96-2D6A-4473-AC8D-F8A2966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CCE-A75D-4A0F-981F-8D04D95E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7DE-F174-4AF9-92AE-3AA90720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C8EB-EE84-4123-A539-29BA356B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6B1-B981-4330-AED5-C2B16312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11CB-AF78-4097-89BA-AED04035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EAE-E2B7-4FDE-BC81-FD88A4E0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C46-0EEA-4605-A0CC-52493966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8000D-EBE9-4CE5-B5AB-91B5B0F483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