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22457"/>
        <c:axId val="12942465"/>
      </c:barChart>
      <c:catAx>
        <c:axId val="32722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42465"/>
        <c:crosses val="autoZero"/>
        <c:auto val="1"/>
        <c:lblAlgn val="ctr"/>
        <c:lblOffset val="100"/>
        <c:noMultiLvlLbl val="0"/>
      </c:catAx>
      <c:valAx>
        <c:axId val="12942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2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D71-39B0-4732-8082-73895048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90D-6F1E-4918-88BE-C1100EC5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3C3-077C-4B14-85CA-B081F27A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496-89E0-447B-992C-10FBEFF9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4B8-335A-4243-B04E-B99B0C4C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7FD-BF7A-4E4F-AF2C-08E1E166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317-A9E0-4B28-8818-20FD17F3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469-5C21-4A1C-A7E2-31C3400A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ED1-2CF4-4A7D-B0E0-2A8CAC1A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70E-FCA7-42E3-B22D-B4D05B3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4E0-D7CE-4E99-BE6E-E3ED44E0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5A1-7F36-469B-A241-D1B2C2B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A3C56-0017-43F1-BDE8-6677BAE68C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