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748782"/>
        <c:axId val="98150145"/>
      </c:barChart>
      <c:catAx>
        <c:axId val="697487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50145"/>
        <c:crosses val="autoZero"/>
        <c:auto val="1"/>
        <c:lblAlgn val="ctr"/>
        <c:lblOffset val="100"/>
        <c:noMultiLvlLbl val="0"/>
      </c:catAx>
      <c:valAx>
        <c:axId val="981501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487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4BA0-156E-408C-B5D3-234F1553F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9CF0-47AF-4265-845B-F5A29EE9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E082-0612-41D8-B435-68629AEE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AB2D-A240-466C-967C-733165333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5D53-3827-4EEE-A411-EFEC8021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19BB-2448-4631-B8CA-FB1CEF9B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BE77-BFF2-452E-A637-749CA4E2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2E66-1D47-4C12-8D01-83ECAF48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3B4E-B6A6-4FF6-9D81-EB81E57B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A823-1BA7-4C9A-9729-87D51B43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059F-6555-4919-9AE2-B56AD8C2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6127-D867-4EC3-BBBF-0ACB7F69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48982-044F-4D88-9939-3565CE5D41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