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22667"/>
        <c:axId val="47686509"/>
      </c:barChart>
      <c:catAx>
        <c:axId val="26022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86509"/>
        <c:crosses val="autoZero"/>
        <c:auto val="1"/>
        <c:lblAlgn val="ctr"/>
        <c:lblOffset val="100"/>
        <c:noMultiLvlLbl val="0"/>
      </c:catAx>
      <c:valAx>
        <c:axId val="47686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2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BBF-6011-443E-8D32-60FAD91C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6E3-ED01-4B05-A889-53F7575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974-AC98-47D1-9C65-87C178F0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0C3-A49E-4595-9CD7-63F7CDC5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BE-4848-4FC9-A786-C2C63A1B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3A9-7ECB-4FC5-AA09-CB1FD41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D27-6A15-4013-AB43-CB5CA0C0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8A5-DEC8-450B-AD02-229275A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16F-B185-42CD-979F-58FF635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5DC-5D14-4604-8AB1-D68DFEBF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03A-5774-41C1-9F27-609164B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B94-EFCE-44ED-BBF9-1DC9936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B6AA2-AEB2-4D5F-895A-BB0C18F45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