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34347"/>
        <c:axId val="22112157"/>
      </c:barChart>
      <c:catAx>
        <c:axId val="35134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12157"/>
        <c:crosses val="autoZero"/>
        <c:auto val="1"/>
        <c:lblAlgn val="ctr"/>
        <c:lblOffset val="100"/>
        <c:noMultiLvlLbl val="0"/>
      </c:catAx>
      <c:valAx>
        <c:axId val="22112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34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00E-32BA-4D8D-AB7B-4EF6B235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7B3-B951-4C6C-BDE2-C2F1BC56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9AF-1155-4D90-BBAF-D17C6AA6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007-128C-46E6-966D-88E3020D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DBB-60B4-4B1E-9504-3C24ECAC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7EA-A929-4299-9AC9-D8E3E587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043-03CC-488D-B1A3-7EF7919B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26F-3E1D-486F-9C7D-D0444389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CF0-7832-47BD-ABBA-4C581E5D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7D7-5853-49FD-88D7-68EF888D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6F6-5B27-4F86-AFF8-69C6FA1D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ED0-357A-432C-868A-9FE4BBF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890FB-A9DC-4536-A246-088D5AFA63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