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72142"/>
        <c:axId val="78884562"/>
      </c:barChart>
      <c:catAx>
        <c:axId val="77272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84562"/>
        <c:crosses val="autoZero"/>
        <c:auto val="1"/>
        <c:lblAlgn val="ctr"/>
        <c:lblOffset val="100"/>
        <c:noMultiLvlLbl val="0"/>
      </c:catAx>
      <c:valAx>
        <c:axId val="78884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72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AB3-78AC-49C3-B778-6C9B0C78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179-5271-4937-A3E0-8029D2F2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D47-C9FA-411B-8DE5-5DF50B6C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373-FA5F-4657-BCE3-EAF0B741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253-5F4C-4A18-8510-89E3D3C8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00A-441F-4F06-B4C5-070366EC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463-3469-4F27-BCC0-6D9A4CB1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EA1-4B24-4A6C-A95B-5AAB2CB5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6E5-6EB0-4B21-AE83-A8C66A0E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C2D-FA6B-4F03-8876-AA936F7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40B-2475-45E4-8AC2-90B5CE73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DF4-708D-4A0A-AF10-E280BC8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99C14-6DC5-4D6F-82B3-326D9BFB22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