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171383"/>
        <c:axId val="46742536"/>
      </c:barChart>
      <c:catAx>
        <c:axId val="251713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42536"/>
        <c:crosses val="autoZero"/>
        <c:auto val="1"/>
        <c:lblAlgn val="ctr"/>
        <c:lblOffset val="100"/>
        <c:noMultiLvlLbl val="0"/>
      </c:catAx>
      <c:valAx>
        <c:axId val="467425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713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5ACD-7CB5-4E3D-89BD-74364D64A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2F11-2340-496B-8F9D-376DE5AB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8B83-3630-4DBF-9BA2-C2CC0DB76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B37E-B674-4279-983E-FBEC547D6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9ABC-5662-4B59-A9C8-8DA035C1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5344-F1DD-4CE1-83F9-CD50B4F7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07E8-9A78-45B6-818F-ABD47B5C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6AF7-C48C-4FDF-9BF0-E0C64A17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70E9-56D9-4635-9AD4-E288698C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22FB-2111-47BA-82CF-A43A0C3C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09B5-FA18-4B61-B26C-E2D9B564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70CF-9107-48AD-9817-7717361E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4D21E-3FF3-413F-833C-D2DA346781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