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77996"/>
        <c:axId val="95764193"/>
      </c:barChart>
      <c:catAx>
        <c:axId val="88077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64193"/>
        <c:crosses val="autoZero"/>
        <c:auto val="1"/>
        <c:lblAlgn val="ctr"/>
        <c:lblOffset val="100"/>
        <c:noMultiLvlLbl val="0"/>
      </c:catAx>
      <c:valAx>
        <c:axId val="95764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77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EB4B-D535-432E-A235-5FBB1708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DBB-DC9D-46E4-B829-434B774F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6E8-1CD0-4C5F-B5DB-5BA9DD2C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311-40A0-4397-90D6-F7165827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C47D-96CB-4672-BA3F-C3CAD601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572-9864-44E5-822B-B02FC867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3E2F-A764-44B1-88A2-7B786BBB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4F1-6F5A-49C5-AEF9-77B5C141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8DB-C3FA-4E30-9E8D-DC8B0210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2AB6-3CFF-4E21-9434-454286F0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4A3-26DD-403B-B674-177733F7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3CC-5697-4E35-AADC-1B00040C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4562B-9330-419C-91A6-7192508A01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