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9513"/>
        <c:axId val="96219504"/>
      </c:barChart>
      <c:catAx>
        <c:axId val="9069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219504"/>
        <c:crosses val="autoZero"/>
        <c:auto val="1"/>
        <c:lblAlgn val="ctr"/>
        <c:lblOffset val="100"/>
        <c:noMultiLvlLbl val="0"/>
      </c:catAx>
      <c:valAx>
        <c:axId val="962195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9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0698-C3D1-48AD-9AD3-13141538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11CA-B12D-4766-90FC-18D956C5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9247-EDBC-4135-8043-D7F759B0F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5E60-27AE-48A8-924D-748CF528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FB7A-43C7-4628-ADC9-CDAB71816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CF2C-AF5B-4147-8C11-3782F5331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CB1-E1B9-4B1A-885F-8F65B2E2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1E9A-FD95-4B3A-B573-0FEDB65AE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BD5-440F-4F56-84FB-D325397C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7CCD-FE47-4CAC-8490-F426DDAD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87D9-E28F-4F52-8F4E-45A14E36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A88-ECFB-4DDD-BA63-FEC034EC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3B7C3-F36A-453D-BA7E-9364A0B81F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