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877899"/>
        <c:axId val="44037987"/>
      </c:barChart>
      <c:catAx>
        <c:axId val="238778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037987"/>
        <c:crosses val="autoZero"/>
        <c:auto val="1"/>
        <c:lblAlgn val="ctr"/>
        <c:lblOffset val="100"/>
        <c:noMultiLvlLbl val="0"/>
      </c:catAx>
      <c:valAx>
        <c:axId val="440379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8778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818-FFBC-4D57-8B5E-1664ECEE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B96B-6633-40E1-A798-8A53AAA9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D9FF-CF46-4F9B-8E15-40B61DAC6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35FE-C66D-49D9-9A17-4616E283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43EE-AB6D-47BB-87D4-F8B2535BA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DACD-801A-454D-BAFE-2BFACB66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19DA-9C5F-46E7-BCE0-BA96382AA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8D44-6E61-4B0F-943C-EDADEAA61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A79C-6AF3-4975-87B4-24D2E8D3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DF41-BFAB-431D-962A-A5F12EDD9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E2AF-B7BA-4FE8-94CB-0ECF3A9FE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1B5C-0C61-4DCE-912C-8A7AE819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7E0AE-AE6C-44D8-AE39-C34AA1FC07D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