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84105"/>
        <c:axId val="15836684"/>
      </c:barChart>
      <c:catAx>
        <c:axId val="65184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836684"/>
        <c:crosses val="autoZero"/>
        <c:auto val="1"/>
        <c:lblAlgn val="ctr"/>
        <c:lblOffset val="100"/>
        <c:noMultiLvlLbl val="0"/>
      </c:catAx>
      <c:valAx>
        <c:axId val="158366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84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DC10-D922-4FFC-BF4C-F6230C2A9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5078-7C86-4672-94B5-DC87E59C8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3BE-495C-4502-980D-84BAB45E8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A14C-DDAF-4713-B009-8FC3E5CD0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637-AA71-4265-9935-3667B501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3B5B-3931-4061-BAA0-5FA4DBC7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A5D-4421-4A52-8BE6-C68EADC17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DE3D-7188-457C-8308-F35D2343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B55E-CE82-4B71-BAD2-527D9DA0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89B1-F196-4B93-864F-D2C14930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F1A7-3F1A-4FC3-976B-B7AA7C8F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1DF-B3C9-404B-9470-38767582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8AEBD-A824-46FD-91D6-BE65834781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