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37200"/>
        <c:axId val="91251984"/>
      </c:barChart>
      <c:catAx>
        <c:axId val="94037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251984"/>
        <c:crosses val="autoZero"/>
        <c:auto val="1"/>
        <c:lblAlgn val="ctr"/>
        <c:lblOffset val="100"/>
        <c:noMultiLvlLbl val="0"/>
      </c:catAx>
      <c:valAx>
        <c:axId val="912519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37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1F13-CB7D-4D78-93F5-66D5110FE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9213-E5E4-4AB7-A983-322A4439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12B0-2FD7-468B-8E53-E2D1C32A7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6E8-7BFE-4645-A348-EDECB135A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15DC-430E-4AF5-A4C5-E779F1E5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EAB8-C54D-4B62-B28E-A2AA9E50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F67-5086-492C-8F67-48599D3D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D484-1CDD-48BC-831A-713BDB5E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6FA7-1A32-47DF-940F-21D36F01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A3D-9E74-45AF-8020-65F1DD50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81FB-CAAE-4922-9FE7-EA9902FA5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E989-D8AB-4778-A202-CF03E265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A320FE-062C-4405-9C66-C142C2AE05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