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207099"/>
        <c:axId val="78844230"/>
      </c:barChart>
      <c:catAx>
        <c:axId val="7920709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844230"/>
        <c:crosses val="autoZero"/>
        <c:auto val="1"/>
        <c:lblAlgn val="ctr"/>
        <c:lblOffset val="100"/>
        <c:noMultiLvlLbl val="0"/>
      </c:catAx>
      <c:valAx>
        <c:axId val="788442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20709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2FEB-AA7C-48A1-8963-FFD4A6C78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E1B8-71D0-4922-B46C-D5301D49E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F850-ADDC-4120-A047-F61D97891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763F-7905-4E17-A1E1-A33BF41E5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CBDE-65A1-4D9A-B211-D08B1D0EE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4679-3B67-40E3-8F3D-18E576B3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C66C-C3D6-4CC1-BE61-B7D7011A2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C02C-68EF-4783-A2BB-80826C570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ED1C-3A9E-4C5B-AD17-57CE7AF5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1999-BABE-4EA6-95A5-02E93B3B7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05DC-FD48-49D7-B47B-024DD3BB1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F3D5-C4A0-4248-9611-D842CF8E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92F570-A285-4F8D-AFD9-C72B13E78E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