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984525"/>
        <c:axId val="27377167"/>
      </c:barChart>
      <c:catAx>
        <c:axId val="459845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77167"/>
        <c:crosses val="autoZero"/>
        <c:auto val="1"/>
        <c:lblAlgn val="ctr"/>
        <c:lblOffset val="100"/>
        <c:noMultiLvlLbl val="0"/>
      </c:catAx>
      <c:valAx>
        <c:axId val="27377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9845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85B0-34EB-4975-8933-CB09B5D5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D3DA-90EB-4A46-8A30-867CDF9CC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9D8-B0D5-418A-AFA6-8CAD9CDA4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CAA4-79DE-4EDD-8E60-ED0FF958B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74E1-6260-4B65-AACD-5CE44609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54F-A327-406C-9ECF-C625292A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174-0684-4942-9782-0BBCB18B9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29B0-DD5D-4594-BBCE-533CAC559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64D9-3C98-4898-A403-61C396F4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5A7F-399C-4C79-ADF2-0CEB8BFD1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10C-8500-4A5F-A67E-D5065A18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A5A84-5D51-401D-B483-6F023718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784E3-8A79-416F-BCFA-7C629C996C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