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05088"/>
        <c:axId val="2821757"/>
      </c:barChart>
      <c:catAx>
        <c:axId val="36050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21757"/>
        <c:crosses val="autoZero"/>
        <c:auto val="1"/>
        <c:lblAlgn val="ctr"/>
        <c:lblOffset val="100"/>
        <c:noMultiLvlLbl val="0"/>
      </c:catAx>
      <c:valAx>
        <c:axId val="28217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50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D611-5FC6-4288-A278-0BC676EBE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CE96-E481-47CF-A605-9F75A91C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D9DD-120A-40B7-AA67-1BCC6C38B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65B8-DCDD-4A9E-9904-0DF907DD6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9F36-EACD-458C-89C9-D3F50104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9639-4C0F-4BF4-B4CE-D738985B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35CB-926D-4B33-B3D3-9A32C34D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9F6E-10F5-4102-AD07-E6D072E7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C895-3A15-4E42-BA0C-BF46FB45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5905-F55E-4CD6-AEBD-32FFD659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5EDC-D812-4F51-9390-1AEC5AF8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E7BC-3217-4784-A755-B89D04CD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C1ABF-FFFF-447F-B834-EE825BA57D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