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643012"/>
        <c:axId val="42648583"/>
      </c:barChart>
      <c:catAx>
        <c:axId val="696430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648583"/>
        <c:crosses val="autoZero"/>
        <c:auto val="1"/>
        <c:lblAlgn val="ctr"/>
        <c:lblOffset val="100"/>
        <c:noMultiLvlLbl val="0"/>
      </c:catAx>
      <c:valAx>
        <c:axId val="426485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6430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EA45-FD9A-4D4B-A4ED-9903154C2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D805-6FB1-4046-9508-6E07C68B0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A728-7985-4DDD-95A0-D2231E82A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FEFB-7E85-4285-B3A1-BBB9C8986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417F-13A3-4588-89EB-8AD2AAF4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C395-D964-45F9-8186-B2E81918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9DDE-4ECD-4938-B1E1-F3D6A219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2B14-87DE-45BA-8B19-58145131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1D5C-0D60-4FB6-8BB5-28C01F41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44112-B0C5-4710-AD08-BB5300AB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541E-FB49-446B-8CF7-573144C0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BD90-0F6D-4D6B-B104-B0585289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6D7648-5718-4BBD-B469-6B4BA1E8E8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