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818"/>
        <c:axId val="5638793"/>
      </c:barChart>
      <c:catAx>
        <c:axId val="537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8793"/>
        <c:crosses val="autoZero"/>
        <c:auto val="1"/>
        <c:lblAlgn val="ctr"/>
        <c:lblOffset val="100"/>
        <c:noMultiLvlLbl val="0"/>
      </c:catAx>
      <c:valAx>
        <c:axId val="5638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A11-8CD3-4F26-ACC9-F5E82003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739-E785-4DD5-AB0D-D4E9589A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FBC-B631-4902-BF2D-E3643AE2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165-5A23-4853-9B75-A650A504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DFC-E554-430E-9CCE-31CFE78C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882-BED5-454E-BF64-C01BB10F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AF5-FE44-4BE3-B89A-6C0517C0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84A-999E-4DB0-B00F-788B8A60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ADA-3DA2-4EA0-B247-7F7D5666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910-F837-401A-9CBF-F8A81DEA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A5A-3877-4EDC-9865-81D6ACA9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68D-C784-449B-A2C6-FD4BCF3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B55F4-0FD6-4889-B7AA-8EAB1C0A2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