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935466"/>
        <c:axId val="82903499"/>
      </c:barChart>
      <c:catAx>
        <c:axId val="593546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903499"/>
        <c:crosses val="autoZero"/>
        <c:auto val="1"/>
        <c:lblAlgn val="ctr"/>
        <c:lblOffset val="100"/>
        <c:noMultiLvlLbl val="0"/>
      </c:catAx>
      <c:valAx>
        <c:axId val="8290349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3546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230B9-044B-4FE8-AC77-927B065E6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85BB4-296D-40A5-BD7E-CF9F0D1DC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98605-A3B5-43BF-B13D-F419A22E8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F80D3-17D8-4CFD-A77F-B8A61AFE3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4CFAA-5B4C-4F65-AF2A-A81E88B18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B8462-24BA-4325-8F70-B49FC7D47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D5DF4-E00B-41DF-96F2-CD2419E50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60622-967E-46B7-91B0-7D04CE772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8D510-C096-47AA-B33D-3CE7AF825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2D5E7-5846-4A4D-BA19-0A695FCF5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6A44B-9707-4EEB-B730-5F88FFC44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F755F-7FC9-45F0-A4AC-79BB2CF8A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B31BB6-35E2-4C80-B0E1-8C6CDE06F77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